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C33-EB57-48C3-A770-2E59CBBD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A9B-CC4A-477F-84C3-F15405AA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FB5-BA1D-4DFA-A22B-45A3644E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202-C3B9-4816-B96B-BAF7B445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3E6-6999-4009-9E9C-99E21DC9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5D18-A4C4-4F11-A19E-4C0434DF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6AE-D296-408E-BC2F-FF07BAAF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75F9-6818-4FC2-888C-A0216A2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D873-1A09-428F-8DC0-ED37135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D5F8-581F-44DA-892C-948DAEB0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8121-4A9D-4717-A5BF-CEA4371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F92-4426-4931-8AC1-A8E66E05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A99-11D3-46FE-A111-DC8DC7C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DDB-7A66-4172-90AF-081D8C0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F45F-594E-4DDD-8958-E8C60977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103-BDD2-4DE2-8411-568E8445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66D5-ED9F-4341-91AB-F78BE4B8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9E77-D5BF-4E35-9035-37BF7466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3579-F684-49F5-B97A-C6CE619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3EC8-7D68-41C2-848E-B4577E79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3C9B-3A19-45FC-B79B-382E134B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A0C3-6CDA-4B20-988F-7F814AF3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9F6-EC62-47AE-93E7-E1DE1A6F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2C6F-F623-494E-8D65-A78DB63F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EA33-98D3-475F-949F-D70B672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A464-39B4-49E2-9E73-E57DA0B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ED14-A7A7-44BD-AEF5-4B86EBA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AF98-5B7F-4B0D-925C-74CE13C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B506-BE7F-4243-AB16-4EA3F77E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FA22-B16D-4F0C-863B-87391F15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78B4-6EDF-400F-80B6-F892F5BF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1083-B4F8-47FA-B496-CD2F730E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34DA-86A2-4993-9A5F-93A97789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8AE-25A6-4CC0-AFBA-49DB3FF7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3468-F45F-4924-9CD8-4C0750D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4F4F-09B9-47A7-AF16-12BB331D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12B7-04A9-46D1-83FC-7ADEA79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3625-9C7C-4EC2-A23B-503C69B1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5352-59BB-43CA-B15A-D8700ED7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9D24-6AD2-4BA1-B5D0-CE182B1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632B-C2A3-40F3-B1A9-72B1A98C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CADA-CA3D-4D72-81C0-86A050FC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C495-E4AA-4B4C-83A0-60EA3390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E72-5A01-4412-B5FA-49078E6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A8F-6737-426C-B687-40E6D29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781-991F-4681-87F0-C733EF1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341-2C7E-4904-913F-C10E38E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A7B-A048-4EEE-A084-7108F790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DBC-2728-4C1E-9374-2D2BF6B265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FFC5-4494-4DE5-98D2-82CEEDE2779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DC0-F85C-43DF-AFDB-6A5EFBFB8A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339-004A-463E-8C8C-F270F4DC31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Databas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500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default quantity in the Orders table to 0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Design view of the require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variable that you want to set its default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default value in the bottom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default.bmp"/>
          <p:cNvPicPr/>
          <p:nvPr/>
        </p:nvPicPr>
        <p:blipFill>
          <a:blip r:embed="rId1"/>
          <a:stretch/>
        </p:blipFill>
        <p:spPr>
          <a:xfrm>
            <a:off x="1752480" y="4191120"/>
            <a:ext cx="5634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records to the products tabl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089 , PName: Bath Salts, PurchaseDate: 10/20/2008, Supplier: Bath and Beyond, PurchasePricePerPiece: $2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8 , PName: Shower Gel, PurchaseDate: 10/1/2008, Supplier: Lush, PurchasePricePerPiece: $4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9 , PName: Shampoo, PurchaseDate: 10/1/2007, Supplier: Lush, PurchasePricePerPiece: $8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5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data to the orders tab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3FF1-11B7-48FB-9685-3DACA61E30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47920" y="2895480"/>
          <a:ext cx="6095880" cy="18288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esMan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lingPricePerPi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ra B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dra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1 that displays all the information from both ta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 ta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ich fields you want to be displayed using 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o not show a certain field after choosing it, use &l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me the query as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2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query_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displays all fields in both tables, but  limit the query to the Supplier "Lush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the query using simple query wizard to select all fields from query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uppler field, set the criteria to “Lus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heck SQL by right-click and choose Show 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aggregate query named query_3. Group the query using SalesPersonName and calculate the Average quantity he/she s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create Aggregate que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simple query wizard and choose only salesPersonName and quant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ota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find a new row add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total and the word GroupBy is written for both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Quantity, change the word GroupBy to be Sum so that the sum of Quantity is display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to check SQ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3C2-DBDA-4F0A-8D95-80729A8113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group.bmp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query query_4, that displays all information in table products. Then, create a new field called RevenueAmount. This should be calculated by Quantity*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th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SQL of query_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e select statement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4000" indent="-5144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…., Quantity*SellingPricePerPiece as RevenueAmou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ry_4, create a new field called Status. This should display "Profit"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, "Breakeven" if they were equal and "Loss"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write the expression in English stat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profi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ellingPricePerPiece=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equ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lo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make If statem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the design view of the qu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thoer fiel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:IIF(SellingPricePerPiece&gt;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t”, IIF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=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”,”Loss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23FA-B520-4038-9566-8C7446DEEAE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Next Week (T1 &amp; T2 only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on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Quiz #2 on Data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ednes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1 Lab 2” of Problem Solv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for TA Paul for Today sl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rosstab query from query_1. Let the rows show the SalesPersonName, the columns show the product name, and calculate the sum of Quant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b qu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quer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alesPersonName in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roductName in colum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quantity as data and sum as function (on the righ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ields are required to be rows and which fields are required to be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unction is required to be calculated; avg, sum, max, etc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1AB0-5436-4CAC-80F3-1BBE1E8570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ploading Data from Exc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 to the "External Data" tab and then select from the Import section Exce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224-73E6-4342-A858-E48F9FF638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Import_excel01.png"/>
          <p:cNvPicPr/>
          <p:nvPr/>
        </p:nvPicPr>
        <p:blipFill>
          <a:blip r:embed="rId1"/>
          <a:stretch/>
        </p:blipFill>
        <p:spPr>
          <a:xfrm>
            <a:off x="2057400" y="3276720"/>
            <a:ext cx="4952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Content Placeholder 6" descr="Import_excel02.png"/>
          <p:cNvPicPr/>
          <p:nvPr/>
        </p:nvPicPr>
        <p:blipFill>
          <a:blip r:embed="rId1"/>
          <a:stretch/>
        </p:blipFill>
        <p:spPr>
          <a:xfrm>
            <a:off x="304920" y="914400"/>
            <a:ext cx="8663040" cy="5410080"/>
          </a:xfrm>
          <a:prstGeom prst="rect">
            <a:avLst/>
          </a:prstGeom>
          <a:ln w="0">
            <a:noFill/>
          </a:ln>
        </p:spPr>
      </p:pic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E86-FC29-4082-A3AF-AACABCFCC4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database named Stuf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Orders with the fields: OrderID, ProductID, SalespersonName, SalesDate, Quantity and 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imary ke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ProductI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personNa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Dat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new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Creat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lick on the table name to choose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riting variables Names an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unique variable to be primary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variable primary key: choose the variable, right clic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ke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variable is the one with yellow key to its le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required to enter values for ID, make its type number instead of auto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3F6A-EF93-4F18-A063-84AE56B8E5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Products with the fields ProductID, PName, PurchaseDate, Supplier and Purchase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relationships might be requir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relationship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Database T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relationship between variable A and variable 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variable A from the first table to variable B in the secon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x will appear to you with the relationship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variables names are correct and then press 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8F7-C9CC-4AA8-A513-84A003850B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3-06T10:42:23Z</dcterms:modified>
  <cp:revision>178</cp:revision>
  <dc:subject/>
  <dc:title>CPSC 203</dc:title>
</cp:coreProperties>
</file>